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carbrake.wav" ContentType="audio/x-wav"/>
  <Override PartName="/ppt/media/image15.png" ContentType="image/png"/>
  <Override PartName="/ppt/media/image14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laser.wav" ContentType="audio/x-wav"/>
  <Override PartName="/ppt/media/image8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3AE9-F48A-4782-89CB-F5B705DFF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C40-2005-4520-80E9-85DFB9B129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B28-4E4F-4695-993D-3069FBEA7FF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D9C-6D63-4216-B468-7C063C00E16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503-D0DA-4C58-B42E-85D3CD405CB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23F-2613-4F12-B359-3A9ED429F3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E5B-4A8C-4D9D-8975-EBB84F564D0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2A6-3FCD-4BD9-98D2-AF3FC915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0C6-008C-4292-8CC6-038234D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A72-B51E-4CF7-8D0D-4B0AA48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FEB-5263-41CB-AF30-8292E6A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18A4-331F-4CCE-8F2A-AE701B70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B2E-A5AF-42AB-B64A-0D891167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1CA-890B-4047-8AEF-D8BE4CCB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F76D-60FB-4162-9326-B27E6257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AAD-A4E8-4554-8D66-FAD74DA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C0A9-5186-4054-9A90-D17838B0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180-B8D6-47B8-9B46-A99C097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253-5685-4650-96B8-B078493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5BB3-8019-47CF-80A9-F568D26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4932-65B1-404B-9D08-D51A808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BA54-113E-4785-82CD-5943B6D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504-7570-48B0-840F-B2499B52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C40-157E-4653-B055-8AAD2CBA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884E-39EB-48FD-97C4-429D5B2E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A270-8427-4646-B2F8-D421B9A6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3245-A5B6-476F-B13D-933CC0EE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B11C-69B8-4533-A2CB-4BF7BFD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4672-DD54-4572-A66F-D4AFACF0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828-13D6-4FD4-8DDA-1B7761C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B558-52AA-4CB4-BBBA-CFCD9AF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B6E0-AE99-4096-A29F-B593C0B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78F7-50D4-4186-B0DE-0A8DC073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A28A-0C40-4C70-A8ED-3576970C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62E3-3DAD-4911-98CA-AA4834D5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5D39-1380-450D-8BD2-62CE6D6A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844B-8FF9-4373-8447-4E14BC56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5FA5-ABBE-46FA-B882-AC1E174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B8C1-C4D6-4F01-B596-E2F1B37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3FD6-BF34-4DE2-9F6A-E43CA20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069-06BD-4A06-930D-CF8309D4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D5634-06EF-4BFF-A6C6-2F3E57A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2B33-B1CF-4813-821D-3917E2A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E0AD-0719-45F4-BCAE-AE8C841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E558-6BF9-4CFB-AF2F-2EFF9EB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2A13-41E8-4E6F-BBD5-51B3754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F746-3AFB-46FC-9436-560DB258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2752-8A84-40BB-8333-1699378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E77C-2CA3-49A8-9EF5-2CDAD275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D7E0-ED38-4930-AAA1-2CFE2461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258-CF2D-44B2-8C3F-D91B831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CC1-5CB9-4FD0-A74A-98E442C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C19-6FDB-4C20-939D-9D08A18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E1B-1A58-421D-B6B0-11DBB0B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203-E36B-42BA-8E26-085CE67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A97E-C346-4996-8F3F-51B6C527C4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C86C-8282-4EAC-BF3B-F44356872CC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9A3-D724-48AC-9CCD-A38FED72AEB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81E5-02E4-4EC1-BB9C-3859A46B19C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S0Q5AUJT_zk&amp;feature=related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Prehistory/EARLY CIVILIZ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685800"/>
            <a:ext cx="91440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NewCenturySchlbk"/>
              </a:rPr>
              <a:t>PRE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NewCenturySchlbk"/>
              </a:rPr>
              <a:t>What is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CenturySchlbk"/>
              </a:rPr>
              <a:t>Prehistory is the period of time before WRITTEN record. (about 5,000 years a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3611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How do we know PREHI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icture 5"/>
          <p:cNvSpPr/>
          <p:nvPr/>
        </p:nvSpPr>
        <p:spPr>
          <a:xfrm>
            <a:off x="19080" y="3200400"/>
            <a:ext cx="135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362320" y="4191120"/>
            <a:ext cx="6324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Arch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Radiocarbon D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astel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Oral 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623960" y="3816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9c2d1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arly River Civiliza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9c2d1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625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 Ref"/>
              </a:rPr>
              <a:t>Because of agriculture</a:t>
            </a:r>
            <a:r>
              <a:rPr b="1" lang="ja-JP" sz="3200" spc="-1" strike="noStrike">
                <a:solidFill>
                  <a:srgbClr val="ffffff"/>
                </a:solidFill>
                <a:latin typeface="Verdana Ref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Verdana Ref"/>
              </a:rPr>
              <a:t>s dependence on fertile soil and an abundance of water, most early civilizations developed near RIV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22860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Mesopotamia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Known as </a:t>
            </a:r>
            <a:r>
              <a:rPr b="0" lang="ja-JP" sz="2800" spc="-1" strike="noStrike">
                <a:solidFill>
                  <a:srgbClr val="ffffff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the land between two rivers</a:t>
            </a:r>
            <a:r>
              <a:rPr b="0" lang="ja-JP" sz="2800" spc="-1" strike="noStrike">
                <a:solidFill>
                  <a:srgbClr val="ffffff"/>
                </a:solidFill>
                <a:latin typeface="Rockwell Condense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.  Several civilizations developed here between the Tigris and Euphr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Egypt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Civilization that grew along the banks of the Nile Ri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Indus and Ganges River Valleys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Isolated civilizations thrived for many centuries. (Indus Riv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 Condensed"/>
              </a:rPr>
              <a:t>Huang and Chang Jiang River Valleys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:  Earliest known cities develop here. (Yellow Riv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362240" y="114480"/>
            <a:ext cx="64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Contributions of Early Civilizations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62120"/>
            <a:ext cx="9296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Mesopotamia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Legal code (Hammurabi</a:t>
            </a:r>
            <a:r>
              <a:rPr b="0" lang="ja-JP" sz="3200" spc="-1" strike="noStrike">
                <a:solidFill>
                  <a:srgbClr val="ffffff"/>
                </a:solidFill>
                <a:latin typeface="Impact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 Code), math skills, and first form of writing (Cunei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Egypt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Calendar, use of paper (papyrus), and hierogly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Indus Civilization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Highly organized cities and waste dis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cb084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cb084"/>
                </a:solidFill>
                <a:uFillTx/>
                <a:latin typeface="Impact"/>
              </a:rPr>
              <a:t>Chinese Civilization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:  Silk, rice farming, and bronze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D05183_"/>
          <p:cNvPicPr/>
          <p:nvPr/>
        </p:nvPicPr>
        <p:blipFill>
          <a:blip r:embed="rId1"/>
          <a:stretch/>
        </p:blipFill>
        <p:spPr>
          <a:xfrm>
            <a:off x="76320" y="4660920"/>
            <a:ext cx="3200400" cy="2149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D01072_"/>
          <p:cNvPicPr/>
          <p:nvPr/>
        </p:nvPicPr>
        <p:blipFill>
          <a:blip r:embed="rId2"/>
          <a:stretch/>
        </p:blipFill>
        <p:spPr>
          <a:xfrm>
            <a:off x="6705720" y="990720"/>
            <a:ext cx="2286000" cy="213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PREHISTORY:  What was it li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71600" y="762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Hunter/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omadic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howcard Gothic"/>
              </a:rPr>
              <a:t>Why did it ch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371600" y="28018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Farming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Animals are domest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352680" y="397512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Ultra Bold Condensed"/>
              </a:rPr>
              <a:t>Agriculture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 is considered to be one of the GREATEST inventions of all time by many historians because it fostered the development of </a:t>
            </a:r>
            <a:r>
              <a:rPr b="0" lang="en-US" sz="2800" spc="-1" strike="noStrike">
                <a:solidFill>
                  <a:srgbClr val="ff3300"/>
                </a:solidFill>
                <a:latin typeface="Gill Sans Ultra Bold Condensed"/>
              </a:rPr>
              <a:t>CIVILIZATIONS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.  These civilizations depended on agricul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,000,000 B.C. First Hominids appear in Af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,600,000 B.C. Homo Erectus appea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0,000 B.C. Neanderthals appe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0,000 B.C. Cro-Magnons emerge (identical to modern human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000 B.C. Neolithic Age begins – first agriculture takes pla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000 B.C. Bronze Age well established in Mesopotam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1225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aleolithic (</a:t>
            </a:r>
            <a:r>
              <a:rPr b="0" lang="ja-JP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d Stone</a:t>
            </a:r>
            <a:r>
              <a:rPr b="0" lang="ja-JP" sz="24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Age, c. 40,000-c. 10,000 B.C.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unter-gather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ade (e.g. seashell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remak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one and stone weapons and jewel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t and religion: Cave paintings and female figurine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6" descr="A006"/>
          <p:cNvPicPr/>
          <p:nvPr/>
        </p:nvPicPr>
        <p:blipFill>
          <a:blip r:embed="rId2"/>
          <a:stretch/>
        </p:blipFill>
        <p:spPr>
          <a:xfrm>
            <a:off x="4648320" y="2492280"/>
            <a:ext cx="3809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682560" y="201600"/>
            <a:ext cx="7778880" cy="816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8002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353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olithic (</a:t>
            </a:r>
            <a:r>
              <a:rPr b="0" lang="ja-JP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Stone</a:t>
            </a:r>
            <a:r>
              <a:rPr b="0" lang="ja-JP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Revolution, c. 10,000-c. 4000 B.C.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6640" indent="-2430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 from a nomadic existence as hunter-gatherers to more settled lifesty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74880" indent="-19656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vention of agricultu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74880" indent="-19656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omestication of anima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6" descr="map 01-01"/>
          <p:cNvPicPr/>
          <p:nvPr/>
        </p:nvPicPr>
        <p:blipFill>
          <a:blip r:embed="rId2"/>
          <a:stretch/>
        </p:blipFill>
        <p:spPr>
          <a:xfrm>
            <a:off x="0" y="2362320"/>
            <a:ext cx="4743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682560" y="768240"/>
            <a:ext cx="7778880" cy="822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ingly gender-based division of lab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pecialized crafts (metallurgy and weaving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ergence of social hierarchy: patriarchal organization of state and society would become the norm in the West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vention of irrigation (c. 6500 B.C.E.) facilitated establishment of settled agricultural communities in the Fertile Cresc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Picture 9" descr="A088"/>
          <p:cNvPicPr/>
          <p:nvPr/>
        </p:nvPicPr>
        <p:blipFill>
          <a:blip r:embed="rId2"/>
          <a:stretch/>
        </p:blipFill>
        <p:spPr>
          <a:xfrm>
            <a:off x="4648320" y="2301840"/>
            <a:ext cx="38098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229600" cy="2103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cient river civilizations developed in four key areas: Mesopotamia, Egypt, China and India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se civilizations evolved as a result of the development of agricultural practices which relied upon a steady supply of fresh wat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The Trigger Effect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the clip and t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mplete the “Characteristics of Civilization” worksheet – explaining how the discovery of agriculture led to the development of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dvanced ski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ities &amp; 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ivision of lab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alend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82"/>
            </a:gs>
            <a:gs pos="100000">
              <a:srgbClr val="696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623960" y="38160"/>
            <a:ext cx="589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c9c2d1"/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arly River Civilizations</a:t>
            </a:r>
            <a:endParaRPr b="0" lang="en-US" sz="2400" spc="1" strike="noStrike">
              <a:ln w="12600">
                <a:solidFill>
                  <a:srgbClr val="ff3300"/>
                </a:solidFill>
                <a:miter/>
              </a:ln>
              <a:solidFill>
                <a:srgbClr val="c9c2d1"/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609480"/>
            <a:ext cx="9144000" cy="63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s civilizations began to develop, the need arose for organization, and they began to develop key characteristics and cities were bu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Government &amp;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Job Speci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Social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Public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4" descr="BL00662_"/>
          <p:cNvPicPr/>
          <p:nvPr/>
        </p:nvPicPr>
        <p:blipFill>
          <a:blip r:embed="rId1"/>
          <a:stretch/>
        </p:blipFill>
        <p:spPr>
          <a:xfrm>
            <a:off x="4952880" y="2419200"/>
            <a:ext cx="4191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3:24Z</dcterms:created>
  <dc:creator>wths</dc:creator>
  <dc:description/>
  <dc:language>en-US</dc:language>
  <cp:lastModifiedBy>Microsoft Office User</cp:lastModifiedBy>
  <dcterms:modified xsi:type="dcterms:W3CDTF">2011-09-12T16:07:35Z</dcterms:modified>
  <cp:revision>38</cp:revision>
  <dc:subject/>
  <dc:title>PowerPoint Presentation</dc:title>
</cp:coreProperties>
</file>